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05B-2365-4890-98D6-D5FF8C31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394-CA27-440B-8648-3E1DE771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399-CA51-4D8A-973C-A49AEE81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D71-C530-46D2-9651-7BAF15D5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C5D-4B95-4648-89F9-A6FEDF60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2E2-1608-425A-BE11-C8D84D0D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21C-F85E-4A36-B0EE-2568610D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A21-9218-46B0-B726-5C680123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4EB-10A1-4ADB-A01D-228E1827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191-E96B-49F3-AEBC-0D2F955B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E71-971F-417E-9130-D58A7C31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FC4-C2E3-44E1-A26C-633CF912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2D30-6ECC-476A-A2CF-B0FA2A096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839130pPYJDRksSW_ph" descr=""/>
          <p:cNvPicPr/>
          <p:nvPr/>
        </p:nvPicPr>
        <p:blipFill>
          <a:blip r:embed="rId1"/>
          <a:stretch/>
        </p:blipFill>
        <p:spPr>
          <a:xfrm>
            <a:off x="0" y="-228600"/>
            <a:ext cx="6553080" cy="739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53080" y="380880"/>
            <a:ext cx="2590920" cy="71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abic Transparent"/>
              </a:rPr>
              <a:t>رنموا للرب ترنيما جديد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abic Transparent"/>
              </a:rPr>
              <a:t>أحسنوا العزف مع الهتا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abic Transparent"/>
              </a:rPr>
              <a:t>فرحين مرن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L275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5880" y="533520"/>
            <a:ext cx="304812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إعترفوا له بالكنارة وبعشاري الأوتا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شيدوا له، رنّم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إن التسبيح يجمُلُ بالمستقي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95687_ph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53080" y="0"/>
            <a:ext cx="2590920" cy="9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لرب يحب البرَّ والعدلَ، ومن محبته امتلأتِ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به تبتهجُ قلوبنا وعيوننا، فهو نُصرَتُنا وملجا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عليه توكل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09:46:17Z</dcterms:created>
  <dc:creator>SUZANNE.MD</dc:creator>
  <dc:description/>
  <dc:language>en-US</dc:language>
  <cp:lastModifiedBy>SUZANNE.MD</cp:lastModifiedBy>
  <dcterms:modified xsi:type="dcterms:W3CDTF">2002-12-09T06:42:17Z</dcterms:modified>
  <cp:revision>3</cp:revision>
  <dc:subject/>
  <dc:title>PowerPoint Presentation</dc:title>
</cp:coreProperties>
</file>